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8B4-5F30-42C1-B21E-612DACBF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5B0-72F7-4B98-945C-D4BF8E84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451-856F-473E-B82A-A401FB30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6D8-EF2A-4270-AF1C-A061242B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3C24-B789-47B3-8A82-13B9FC92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B9B8-C254-4FBC-BF7E-E71FD62A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997A-5189-4645-841A-CAF2F766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B760-8037-4307-B5EA-7609C252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A1AA-8536-4C6A-AF85-36AF204A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080E-018A-4913-A357-9EB65E95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5639-2885-42F7-9311-722DF127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E76-F112-404B-8729-C8F288F9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A649-737E-41A2-8562-46CE3A58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4138-F327-48C5-920F-56309C87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8FB4-062D-479D-8C91-4DD60901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37EB-D710-40C3-B309-D18FD7E9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E51B-CBB7-42A3-A305-7B65DA11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107-487D-4EAC-99FB-F9977CCE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382-EC9B-42F5-A519-87C2329F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5C1-80B1-44D6-88E6-24A865F0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536-A494-4E2A-B800-4B29412D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2F8-B520-4E74-A931-0246E6D8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F07-5FF3-44FE-9810-29B8BB27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78C-3309-442F-A78A-DFE46ECE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8E29-97DC-4E48-AB58-13FCAA3380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8C5E-ACDD-4F6E-BB33-ADBC1D93BDB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oogle Do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or Assessmen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ultiple Choice, Checkboxes, and Lis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Choice and List only allow for one answer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Choice allows the examinee to see all answers at o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stores all answers in a drop down men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ckboxes allows the examinee to select more than on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ale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2362320"/>
          <a:ext cx="7010280" cy="41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70102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581280" y="5029200"/>
          <a:ext cx="541044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5029200"/>
                    <a:ext cx="541044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id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6640" y="2378160"/>
          <a:ext cx="556416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2378160"/>
                    <a:ext cx="556416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191120" y="5410080"/>
          <a:ext cx="4952880" cy="13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5410080"/>
                    <a:ext cx="495288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6477120" y="2971800"/>
            <a:ext cx="25146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f you do something like this then you cannot make it a required questions.  Otherwise you would need an answer for each row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es at a Later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048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ess the form after logging onto Google Do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on docu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on Form and then click on edit fo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320" y="5159520"/>
          <a:ext cx="9067680" cy="16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159520"/>
                    <a:ext cx="906768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886200" y="1828800"/>
          <a:ext cx="4952880" cy="29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828800"/>
                    <a:ext cx="495288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blishing Your Google Do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edit mode, the web address for your Google doc will appear at the bottom of your fo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py the address and paste it into an e-mail, onto a Wikipage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s can then access the assessment without having to sign in to Goog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5715000"/>
          <a:ext cx="891540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715000"/>
                    <a:ext cx="89154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838080" y="54100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ew of bottom of a Google doc fo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alyze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you open up Google Docs and click on your form, the data will appear in spread sheet for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ort the results by clicking on “Data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you nee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Google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re to differentiate assess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minimal amount of technologic prow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tting Start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o to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google.com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lick on Documents in menu across the top of the p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gn in with your username and passwor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lick on the red create button in the top left corner of the p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lect Fo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876920" y="5029200"/>
          <a:ext cx="1809720" cy="14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5029200"/>
                    <a:ext cx="180972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343400" y="2590920"/>
          <a:ext cx="4343400" cy="587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590920"/>
                    <a:ext cx="434340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724280" y="3124080"/>
          <a:ext cx="2286000" cy="17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24280" y="3124080"/>
                    <a:ext cx="228600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n Assess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 your Google doc a title and provide instructions for your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each question select a question type (text, paragraph text, multiple choice, check-boxes, scale, or gri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xt Question Ent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00200" y="2251080"/>
          <a:ext cx="502920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51080"/>
                    <a:ext cx="502920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858000" y="2971800"/>
            <a:ext cx="2057400" cy="22284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ke sure to click on “Make this a required question” to ensure that all questions get answe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xt vs. Paragra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question selection provides a small window for students to enter a answer.  If the answer is more than a few words, students will not be able to see their answer in its entirety without scrolling back through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graph question selection provides a much large response wind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ving Forw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90720" y="2438280"/>
          <a:ext cx="617220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617220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952880" y="4648320"/>
            <a:ext cx="3124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800600"/>
            <a:ext cx="3581640" cy="1618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fter you hit “Done” for the first questions the screen will appear like this.  Click on “Add Item” to enter another ques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ultiple Choice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2362320"/>
          <a:ext cx="6858000" cy="35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6858000" cy="35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iting or Duplicat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53337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you have hit “Done” for any question you can go back and edit a question or duplicate i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t the cursor over your question and the ions on the left will appe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791320" y="3429000"/>
          <a:ext cx="259056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429000"/>
                    <a:ext cx="25905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0" y="5562720"/>
          <a:ext cx="914400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62720"/>
                    <a:ext cx="91440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4:31:12Z</dcterms:created>
  <dc:creator>udsd</dc:creator>
  <dc:description/>
  <dc:language>en-US</dc:language>
  <cp:lastModifiedBy>udsd</cp:lastModifiedBy>
  <dcterms:modified xsi:type="dcterms:W3CDTF">2012-04-17T15:32:00Z</dcterms:modified>
  <cp:revision>6</cp:revision>
  <dc:subject/>
  <dc:title>Google Docs</dc:title>
</cp:coreProperties>
</file>